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67512"/>
        <c:axId val="1286079"/>
      </c:barChart>
      <c:catAx>
        <c:axId val="15167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6079"/>
        <c:crosses val="autoZero"/>
        <c:auto val="1"/>
        <c:lblAlgn val="ctr"/>
        <c:lblOffset val="100"/>
        <c:noMultiLvlLbl val="0"/>
      </c:catAx>
      <c:valAx>
        <c:axId val="1286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7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F8C-7208-4C2C-812F-3BCA646D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6D4-A5B9-40E6-9797-E00E43E1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72B-237E-4BD3-8144-9DDC0881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2BE-40F5-4901-A96D-806CEDC9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A7C-3F60-44E2-A332-90C5B441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1AF-B5F4-4F1D-834E-04043DA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FD2-2C9C-405D-A642-D0A21F24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9C7-C040-4CAA-856B-2CA22C8B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065-2274-4B2A-87F6-19EC5E41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B59-084E-4A8B-9690-1288B85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F5F-C16C-408B-9ECB-FA3041AD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570-428C-4107-87B4-1C3DE9CA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F677B-BC6E-47DD-8D02-E28A717F91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