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01279"/>
        <c:axId val="40665120"/>
      </c:barChart>
      <c:catAx>
        <c:axId val="21001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65120"/>
        <c:crosses val="autoZero"/>
        <c:auto val="1"/>
        <c:lblAlgn val="ctr"/>
        <c:lblOffset val="100"/>
        <c:noMultiLvlLbl val="0"/>
      </c:catAx>
      <c:valAx>
        <c:axId val="40665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01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99B-0289-46BE-8E3B-79003000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29E-BD93-4B58-AD8B-68AD2C52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54A-1890-4D29-A4D9-8A714774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4F6-0008-4203-838C-932535F0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DD1-0031-4A98-B6FA-2DAD6B88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CB3-BAA0-477B-A9C4-BA01BE1B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D47-B969-4B97-B779-6DBDE24A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9AA-B707-40E5-BF18-44EF21B5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1D0-C600-4CFF-A480-1E7CD0BD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12E-CC7F-42F2-AD59-577E6C36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3F3-DD4B-4371-A4E4-EFBB1EB4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5DE-75F4-40E3-8952-2B7668A4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A9708-2E4B-46BC-ABE7-698530533A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