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44060"/>
        <c:axId val="6571666"/>
      </c:barChart>
      <c:catAx>
        <c:axId val="54844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1666"/>
        <c:crosses val="autoZero"/>
        <c:auto val="1"/>
        <c:lblAlgn val="ctr"/>
        <c:lblOffset val="100"/>
        <c:noMultiLvlLbl val="0"/>
      </c:catAx>
      <c:valAx>
        <c:axId val="6571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44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C06-D2DA-4B94-A1BC-A9FE354D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CF5-EAF7-4A11-A8BF-31AF2442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2F7-AB45-4576-9832-04A33999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803-C7BC-4D45-A32B-448631A7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368-A6D9-450F-8A83-2B2BFC11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0DD-4124-45A7-8322-4E6A7953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27F-26CB-4994-83DD-2C83D6FA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C17-4B16-48F6-A92C-912089B1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DF7-4D68-4074-8A96-EB9BA7A6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657-A157-459F-81A7-EACBA1FE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F68-0DA3-4E93-92CE-1A059D55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51A-FFDB-4742-86CA-21B6BCE4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7C361-D34C-404D-9749-081625320A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