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9057"/>
        <c:axId val="4514620"/>
      </c:barChart>
      <c:catAx>
        <c:axId val="38809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620"/>
        <c:crosses val="autoZero"/>
        <c:auto val="1"/>
        <c:lblAlgn val="ctr"/>
        <c:lblOffset val="100"/>
        <c:noMultiLvlLbl val="0"/>
      </c:catAx>
      <c:valAx>
        <c:axId val="4514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9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A49-067F-4E75-A058-F6A419CA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0A9-2BA6-4C7B-B52B-A3E84BE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1DF-5A61-48FF-84AE-223A0882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AA4-CCE6-4869-A8B7-5E16741D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922-649A-4030-8CFA-8ED599EC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366-F1B1-4DD0-86FE-9CF56AB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71E-B636-493A-93B9-29260C1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4E4-29A9-494A-9A23-E57698E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C3A-E2EE-4AE1-8AEC-23992C6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899-1800-47D0-87FF-5B155DD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FC6-7F99-41CA-9ED0-ACD317E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AD2-355F-41DB-B0C4-A30DB08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5FD9C-8585-4261-A54E-889152ECB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