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429770"/>
        <c:axId val="14543778"/>
      </c:barChart>
      <c:catAx>
        <c:axId val="144297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543778"/>
        <c:crosses val="autoZero"/>
        <c:auto val="1"/>
        <c:lblAlgn val="ctr"/>
        <c:lblOffset val="100"/>
        <c:noMultiLvlLbl val="0"/>
      </c:catAx>
      <c:valAx>
        <c:axId val="145437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4297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6134-FCE7-495F-93D9-4C9CFA185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48D3-4A81-468B-9B4A-C1C9C051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D5F8-17F3-4E87-BD08-5AE2DCC13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F787-A10D-4743-AF55-4F5BA0E43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11B2-2918-4B44-986E-D9F2030E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D0B5-A4F9-4DBB-BE30-08E53BD0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51CA-274A-4375-B065-FCCE0E7C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313C-0CD7-45F2-8176-B582F9C3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2C16-3542-473F-A355-6396FA3D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C90B-6261-46FF-AC10-C43809B0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5628-B36D-44D6-BC6D-0357179F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7507-6CB7-4A2F-8E30-BE250A5D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F4168D-5C5D-49AC-B3E8-658C75BB7D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