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47925"/>
        <c:axId val="32434639"/>
      </c:barChart>
      <c:catAx>
        <c:axId val="12047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34639"/>
        <c:crosses val="autoZero"/>
        <c:auto val="1"/>
        <c:lblAlgn val="ctr"/>
        <c:lblOffset val="100"/>
        <c:noMultiLvlLbl val="0"/>
      </c:catAx>
      <c:valAx>
        <c:axId val="32434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7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58A-7A40-4CD3-97EA-8E2A6B2C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DFB-E393-42D5-B647-73936FF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231-11D1-4CA4-AAE5-D905BD11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23F-31D6-4113-8FF8-77F5DEE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7F0-BA93-43B2-9158-8AF68E40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BF5-2747-4FCB-83B3-BB41666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826-8BD8-4D08-BB4C-466CB79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BFE-78DF-4493-8BE1-B92440D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7A6-A6F2-47E6-A765-F55D592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BBE-F230-4882-9019-17F3EDA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B42-6CC2-452D-81CD-2A39BEB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2A7-AED5-488E-BAB5-2119B4D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FCB6-4B91-44EA-A21B-34BEAD3891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